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F59C-CD85-4467-8BCB-5974D850CD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A72B-2CE7-4745-9A06-DCCFBF7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EFCE9-E5AF-4582-A8C5-F27E9B94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E91FA1-D690-44F9-9E25-0BF8160C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7F3DCA-1BF6-436C-B8A1-A6B837B0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E60AED-8918-4C84-B3EF-EB2EC8B2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6615D-4034-41FA-A284-FFC99F44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B8CEB4-3BC4-43C1-B2B8-BC000EBA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DCE51C-1EE2-497D-9BA7-5B3A463A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BE44FB-7577-4BB6-A10E-AF98196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342EF-6D37-46D5-B237-42BED4737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BDA5-58A4-4761-9CED-AE4BAD70B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8D2B-FAC1-4EBA-950E-68B9D571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A2A9-B73C-44F5-AAF1-2A11C72E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C79AC-5CD6-4C37-B31A-A178B7BB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2E042-11A1-40F8-BBC2-C9E8C2B3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95BB-A708-4DFD-A2D4-95D7F96D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EFF02-BCEF-439F-A4FA-3061A2B5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18C03-B1EB-4F95-AAF7-37EC768A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7678-75D0-40DB-B673-5E7C866D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54A8-4B11-4966-8348-D2638BD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4E0FB-93B8-44F3-9030-5483FAE3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9866-00FF-4760-B4B5-18C0BCE6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4B5C-2720-4BF6-82B2-EE0A0EA651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ACF09-14B2-46EB-B7DA-ED2A85AE0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4A356-D2F0-4131-9E64-0293AD76E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0BBAD-9050-4300-BC38-5AC68420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B5AC77-D7D9-4F4C-A5A5-AF96BC06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1EE86-7EB6-4232-AC7D-C6BC4B2B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E10A82-B3CF-4732-9954-8DF73C0F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49EC2-CB03-48D6-9322-614AD167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495454-825C-4F49-98BA-EDF41C9D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5BA7F-5E63-4FAE-8612-DA7A7059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02A582-02E5-481B-9AF3-E791B69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F48BD-680E-4722-999D-C92CB1C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D6917-68E4-449D-95DB-93786F1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9E5172-0DA0-454D-BDE4-64C696A5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5F4C3-2F54-4918-9A6A-3ED0D8E41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F3D08-6607-4BBA-8B68-9247B18EDE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2E824-CE42-4ED5-8386-BA79A79A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D924C-87E4-4DF5-AE4D-987A8F6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05202-609B-4651-BE11-169E006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9DA1D-B1D4-450D-AEBE-E68F83C6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C4180-0197-44D9-8BED-DBE44F4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A303F-AC29-463F-AD03-03F3D7CD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B58B4-2AE3-4463-A24C-D10E085D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49C56-BB48-4917-A58E-295538D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37F42-C0CF-4520-BFD6-B9979165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2E840-3593-4624-A626-8047864C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DC9EA-1343-4234-9C1E-95BC1C4E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A1243-DD3A-4EF5-A262-F573560C1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FD7E7-0F2B-400A-A8F2-CCCC88C8A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41C00-B592-4F78-9866-9B54D4A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8B8D8-A007-4214-A546-A981C218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8E619-EA8A-40B2-8C87-8F53337B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98476-56EA-4F40-9BB8-2DF96BEF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59C22-8C3F-4469-AA0C-7044747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2F032-C99E-42BF-BE64-72BB535B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60328-DC4E-4665-8BC3-ADD0C75C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69ECF-CD5E-42CF-B7A4-CA36FB99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B124C-615F-4174-BB09-97823426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28114-3B4F-43E7-BEBF-FE58B560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F5DC6-2929-4BB5-A8B7-369D5813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995D3-559B-4262-ACC0-05670FF3AC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16D75-F641-45A6-842B-021FD738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28BCB-2BF5-4EE8-9048-D8C38A84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05A53-D8B0-40D7-ADAB-6F55282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1DC0C-BAA3-4E4C-BFE5-9222C27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25141-4A40-46D8-84F2-17FD72C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021AF-E1FA-43AA-8D4D-C5614519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81670-F3B3-410D-A335-E0E1096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293EC-9487-4775-A3CD-5FE6ED7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19D5A-8F37-4345-8FB1-2969CD07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7E01C-83E4-42E2-AC6E-4DD99D2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BFF09-7C0A-4163-9C37-E3F69AEF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F2C41-5B6E-45D1-8543-529FADAE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A5EE9-F8BD-4C98-B90C-12AA6539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39E2-27F5-451B-A69F-51BBE8DB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8470C-B069-419D-96F8-2D989EC5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1E6C8-EC72-43CE-996C-D9D32540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40928-1052-4A3E-BFF7-9612DBE9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1A9D4-D9D8-40FC-9D49-236DF78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4826F-3F22-43FA-81BD-9C3E1F0B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0C8FE-CB42-4668-9251-3198D9E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54E8-8606-4399-A585-B44B607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8867B-CC0E-41DD-BD0E-CD20D47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3481F-898B-4AFF-9B98-0CFBE535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66980-B37C-42FB-BABD-4FEBBE9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AD122-325A-4C70-9985-C92713E1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9CA4-19ED-47D0-A031-C7102A35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E054C-FF82-4929-8004-3A25B4FB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3B73D-A7B6-4CCD-B3AD-5877E0DD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BCF88-25B1-4D9A-B7E2-0A797D1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97677-8E4B-4464-A4E9-8597214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0F53-C828-4899-950C-69777618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078A6-77AE-4C7A-AD89-2D2EE8A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5C28F-9E18-424D-B05F-0EF0C58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60FF9-0A7F-43BF-8468-80CE5C1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B7816-D6C1-4167-AC7B-1E1D9F6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74906-B59D-4691-9B30-40E79F2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0D278-9E1F-41FF-8332-A2890FDD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54846-3668-4B9B-8C95-A0837A99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C2A80-BCAC-404D-ACD8-FFBEFB35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72CAE-35CF-4930-B2F3-CE4FEA44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B2E4A-47DD-4227-B15F-AC830BFB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A0FD0-9066-4C28-806D-B49B7A96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19ACD-6F81-42BA-8900-71174CAE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6705C-0B3E-411B-BD87-FF3BED10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C072A-F8BC-43EB-B91A-FE47F08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9BE37-1CEF-47D4-9EA3-FF700845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DCF7F9-6304-47FC-8896-B584B38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AFEE-2CC4-45FE-888A-8E91AE0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CA448-99B6-4935-874D-10A5356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DAA4B-E3AC-461F-A7D0-5A5B8B2D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2E520-C8AF-4562-93FC-61438B14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43611-6FE2-4F9D-9279-932F3E38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37F2D-46FD-42B7-9038-FC31F90A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E83E0-6BFD-413F-9C5B-0368E971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0A7BB-0D85-4207-BF13-3E11A552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1EEFB-B465-4623-A4B5-6DFBF6C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13FCE-3EC7-467E-8352-9054F4A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D83195-3D7E-4649-86D5-C85ECE5A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CF450-1F44-4AF1-B19B-7F68DAEE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F6EFF-8C14-4540-A59C-6D4D00E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CB1C7-A418-42A6-BE38-A974019C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1296F-7F94-4DC0-A069-0269F7F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E8A53-703B-4E41-BEB4-5792C07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C83F4-D854-4C39-B73A-3244E13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8814D-3375-41C2-BC69-258A110F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AAA73-BF34-43D5-B103-65D582CF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56A3D-D686-4CFA-9F68-69D06E6A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E72E9-EE4A-4BEE-B6C1-F79143C1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41126-0763-4500-B24B-0488DFE4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4183E-7D36-403B-B9C3-F9A7C084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6A64D-2BE5-401B-8752-647277B3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70B01-B9E5-4506-A100-33ACB60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13B26E-FE3D-4131-8BFA-EFABE9EF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C7754-1443-4682-AC1B-3479CFD1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C602F-6391-4BD4-A840-39DA77DD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69B8C-77B4-4F20-BCAB-C81C78E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E4958-8B08-492F-9419-3843EEA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554B7-660E-4CFA-9E22-CA36325D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98924-9DE6-4328-A2EA-2B389EBD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4FA04-CC7E-4B05-A5D4-6CB8598C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8353E-20B9-4536-AD58-B447FA21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919DF-44E2-478D-B2DF-512F9CD7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86D98-F24D-47FA-81C4-C4FF861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593A4-E9A0-4F4A-B732-F6A6E04B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99D99-34FA-44E2-B2CF-451752DA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F13DB-E052-4B6F-8A37-9C6AC657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AD123-EF15-4660-8EF5-13F37A0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1B395-17CE-45F8-B775-88DE606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00305-847B-482D-B731-D45C619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61E9F-D997-470E-87C7-7EE70EF2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A32F4-46F9-4A0D-B44B-197C336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F86B7-702A-4B42-82E3-4DC09E12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74CBB-6628-42A9-8321-56CDF73F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5B7C9-0E51-4061-9DB5-8EDD4176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F3562-3CA1-41B1-9FFA-D1B3B02D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27602-09CC-4F37-92C4-3BC0C2D8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46950-69E3-46C3-9D8D-B35A151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83838-D84E-401F-A6F0-1EB049F0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4BBCB-95E4-47F4-A979-DE484A2C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B72F3-4E50-46EA-86C7-5B753A5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0648A-25A8-4A0D-B091-36BF8CD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F2276-A95C-4D0F-8F06-2769329F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9F019-B5E3-41D3-9FC9-94B28761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26CEF4-C082-48F4-B131-569152F86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9662C-6150-4A70-9F2F-6E1E476C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54A50-2450-4235-A0B9-BA9CDD9B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DBA1E-F14B-43EA-999A-428D399C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DEE643-CA78-4D5B-82A7-F60DE52A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ECDAC-5842-4C73-AF29-F1F02A21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5F45F-9A6D-479A-86D3-7AC2D80A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1F9A7-12FB-44A6-89CC-7AB38ED7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F7D03-E047-4E3B-BBF4-4366E63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CCF578-2421-402E-8B68-60F699B5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AADB1-9F1F-4FFE-ADBA-F5CA61A2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C1DBC0-1D92-4EC3-B8AC-F8FE121E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2FBB4-4C2A-4BB1-8674-31A3176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266A0-CCEF-4A15-BC12-99BA9E87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975E6-50AE-4C03-A838-07A8C21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598AD-9DAF-45A1-89BF-BA022A0F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E42D5-6EE3-4FD6-8337-98F54AC6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0F514-8BAE-4B71-A615-02B4B3A4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F976C-68D2-4585-AD19-8F178BCF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C5DAD-6FB3-426A-B2F6-0F6D35B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02824-D4E3-4CF1-9D42-499C07F1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D59F1-0D46-4BC6-A2FF-4D498EC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FAD25-BA7E-49CF-9917-1D46B42D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2D6D3-09BC-4F32-864A-4D4BF57C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91A6B-6AD4-487B-B25B-5E010BA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7D4A8-0DAD-4A3F-8B82-B37A6BF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5B70B-4549-4131-9A26-D119D93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C81C6-665E-4082-B774-BFDAE70A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91B51F-425E-4AD6-BB07-6552C43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78E6F-4EC2-4CED-8F8F-CC86536A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F47D4-D762-4E61-9556-A21B9F0F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B61567-CEC4-409E-90FD-E03892F9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268B1-DAC1-46E6-9D0B-A1C062C1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8B053-9666-4E10-A51F-8583BD0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B9789-2EA1-4212-A7D2-ED488C8C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C73685-03F7-46EA-8B01-8C49B3B0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0B73B-72D5-45A5-B7B4-7B6B81C8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8BC29-3660-4EC2-A43F-5C733F4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4B716-C392-4B58-A940-7B96CE0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65AB8-3569-4E2B-8D07-B357B1F9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608EB2-58FB-4818-B3A0-B1CCF78B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E800C-4AF6-415C-935D-0E89A566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E1526-39B8-4C1E-9FF1-91A70B7C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77098-BC45-41AD-A484-AB5A651A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565A6-738A-4970-B431-85A36D8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3F868-7D76-4452-A596-B1A1CFF1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2B9D69-7957-4181-8B25-EB4A3EF5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6689E-994C-4AF2-B9D9-B3CCB68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DE2DB-74C7-4ED5-8128-2DD96C6F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EE49E-FC38-47DD-BBEA-BC78B52C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8CB09-9288-4F7F-96BA-289632A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5F663-347A-4FA8-A190-432DFE78EF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0918-6733-4A3C-A9BC-94B6EDA60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5575-084C-4000-8751-7984792C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272C-4FD7-4210-90ED-D6ABBD37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A17B-6496-4E38-9DA6-79652CF2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76AE-FFB4-4F26-BE60-D3715820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47258-85F4-4CB2-B885-F73911D2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50DB-3ED1-4A69-B2E6-CB5E1503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7245-20D5-45CE-BAE0-CA9178BE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6B5D-016E-43C0-9347-7899E8E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6B60-BA7C-463B-A379-E79A818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C595-3105-4BF2-B127-3CD0D075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A67C-291B-4448-9A7B-7B71719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FF5B-16C4-4BD7-90C1-91927144B5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E517C-59A7-4904-A587-0F90074EC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AAB3-7E4D-45C6-B11D-7E372E64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F46BB-BA7F-443F-B792-E5AADCA3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B39BD2-E8EF-449B-A88C-C0C498C3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5DBE5-AD5F-4C30-BB4A-2B89010F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51FAD-166E-40DB-B42E-ED798D1F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94758-2415-44CD-97BF-8D025836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116E7-811E-489C-8A3D-9A2AB540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0629A-6CDA-46C9-BCB9-BAB38A6E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649A5-8FAC-430D-A390-8741963E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64BD0-7AFA-4C3C-A442-FB539A0D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8CFB3-749D-4A18-8D08-0F13C91A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0275F-C4CF-4A02-86EF-609CCFD6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5EA2B-489D-41F8-9534-108AD3C733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3D76D-6AFF-4954-A52C-5B86758D30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8C9D4-A21F-435C-8930-EBF1A826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E6F6E8-9B8E-4806-8ED5-668C2A54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E444E0-944E-4D69-B65C-E9441D80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6DB3A-64FD-4074-874E-4F2F5B5B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08E10F-7EDF-49DE-98E3-00ADEF14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DB1F6E-BE55-47D1-8DFB-35FD569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17D40-9D53-4678-A4A4-7FC3E1D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5C6AD-CBD1-4C6F-8D40-8E62766F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C6EE9-CBB9-45A8-85C4-7CB59080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2995D6-4ED1-4D9C-AABC-29AEBD45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F54D7E-E2FB-4DDE-BF1A-4EA1580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1670D0-E789-4D1B-9C7F-0742A5B5C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A6A38-E585-48CD-919D-5D16EEA11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9E52-D970-450B-AC86-F091B5D9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0AA21-B93B-4D9F-9F61-8D07455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9F31-A4FB-48CA-9A23-0705B1D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400E-4085-497A-A24E-CB98701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92CE-AFB4-4652-B61E-4550535C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938A-03B4-46AC-88F4-3A1A9FAF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C756-E504-4EFF-9AB1-C30FD8CE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1A85-41FB-4539-B3F3-8CA9D9E8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849A-0E7E-4318-99EC-34823E05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9CA1E-DB38-400B-99BD-C47D9DD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F20E-840B-4874-A873-50100D0A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7662-9929-4433-B868-E6BFE9080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D0815-EE88-4187-B085-3B959DCF2D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D768B-E004-45A4-A8B8-979F9233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57112-889F-4A0C-B9CD-82E27B1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2F79F-B8EF-465F-BCB4-DD2194A0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8C76A-0051-4AA4-BF20-10595EA6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36B4-3AF7-4936-BDA1-BAAD2A2F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9409C-6984-4B29-ACE9-4A21CA89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6EC31-35F8-4D65-8740-A5BEBDC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CEEEF-9B52-4B38-97E4-75DE86E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C5786-BD0D-46E4-B476-D7D4A7A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4305F-738E-4696-9156-28DC033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ACD5C-C1CC-4B1D-BD3F-F6735B8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E80EC-D858-41B4-9FEA-1B8AD72655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CD7C2-6F76-464D-A5F5-BBA0AD7664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D158E-5E7D-4F45-9AA2-7B0AF90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70B277-E452-4D6A-8398-2E9B053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C16-CFED-4070-A710-C16280A3A4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019-CAB0-4FA7-B57E-54E413FB08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05F5-9DE0-4D3B-A9D4-6E612EE310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821-E7C0-44F2-8EAA-5EC60FB502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B1F0-CE63-4299-BEF2-E45337FF6D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B4A-EDBD-4E87-BF33-78EBE72FFB0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B644-0EBC-474C-A216-2F470DE092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BF5-0547-4563-8C78-FB025619A2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FF35-4280-45E5-B8F9-C19EC98A98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413E-B267-4540-AF4A-CFDC7241FD1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607F-28C2-443C-B060-9320B1065B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A61C-7A34-4845-8AB8-EDFEBC395F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1A7F-F902-49A3-B997-3597A9D886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9C94-0D0A-47D3-BD27-CB0B7A7111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2EF8-E0F5-4A78-812A-FCC516ACA2B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05D6-2C91-40FB-8706-F2CE36614F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87D6-8B1E-482E-BC0F-FC8BC991DEB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A841-7722-4778-932E-7C146BA318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430-4543-4C74-B146-F127B21D9E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D435-CBED-4A55-8BA2-7F8ECA7D0EA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0E58-2D6C-499B-8C5A-20E86F29738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0D0-D5F2-4A8A-BFA7-14AFA43458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01A5-2C76-4B44-BD8D-9DC9DAF06D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BE5-6AB9-430D-9C7F-FF8E316719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13120" y="270504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49200" y="268128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的 变 化 规 律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1"/>
          <p:cNvSpPr/>
          <p:nvPr/>
        </p:nvSpPr>
        <p:spPr>
          <a:xfrm>
            <a:off x="430200" y="111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2"/>
          <p:cNvSpPr/>
          <p:nvPr/>
        </p:nvSpPr>
        <p:spPr>
          <a:xfrm>
            <a:off x="714240" y="857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本练习本，分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位同学，平均每人几本？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本练习本，分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位同学，平均每人几本？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本练习本，分给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位同学，平均每人几本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"/>
          <p:cNvSpPr/>
          <p:nvPr/>
        </p:nvSpPr>
        <p:spPr>
          <a:xfrm>
            <a:off x="714240" y="3000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从上面的三道应用题中你发现了什么？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4"/>
          <p:cNvSpPr/>
          <p:nvPr/>
        </p:nvSpPr>
        <p:spPr>
          <a:xfrm>
            <a:off x="785880" y="3857760"/>
            <a:ext cx="7715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从算式看，被除数、除数虽然改变了，商却没有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Picture 16" descr="E:\2017秋上·黄倩\其他\人\蜜蜂.gif蜜蜂"/>
          <p:cNvPicPr/>
          <p:nvPr/>
        </p:nvPicPr>
        <p:blipFill>
          <a:blip r:embed="rId8"/>
          <a:stretch/>
        </p:blipFill>
        <p:spPr>
          <a:xfrm>
            <a:off x="4932360" y="5214960"/>
            <a:ext cx="993600" cy="1095480"/>
          </a:xfrm>
          <a:prstGeom prst="rect">
            <a:avLst/>
          </a:prstGeom>
          <a:ln w="0">
            <a:noFill/>
          </a:ln>
        </p:spPr>
      </p:pic>
      <p:sp>
        <p:nvSpPr>
          <p:cNvPr id="1014" name="圆角矩形标注 6"/>
          <p:cNvSpPr/>
          <p:nvPr/>
        </p:nvSpPr>
        <p:spPr>
          <a:xfrm>
            <a:off x="2000160" y="4659480"/>
            <a:ext cx="2714760" cy="604800"/>
          </a:xfrm>
          <a:prstGeom prst="wedgeRoundRectCallout">
            <a:avLst>
              <a:gd name="adj1" fmla="val 43833"/>
              <a:gd name="adj2" fmla="val 85444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11"/>
          <p:cNvSpPr/>
          <p:nvPr/>
        </p:nvSpPr>
        <p:spPr>
          <a:xfrm>
            <a:off x="2143080" y="4643280"/>
            <a:ext cx="2500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这是为什么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7" name="TextBox 2"/>
          <p:cNvSpPr/>
          <p:nvPr/>
        </p:nvSpPr>
        <p:spPr>
          <a:xfrm>
            <a:off x="442800" y="115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3"/>
          <p:cNvSpPr/>
          <p:nvPr/>
        </p:nvSpPr>
        <p:spPr>
          <a:xfrm>
            <a:off x="357120" y="857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计算下面两组题，你能发现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57"/>
          <p:cNvGrpSpPr/>
          <p:nvPr/>
        </p:nvGrpSpPr>
        <p:grpSpPr>
          <a:xfrm>
            <a:off x="428760" y="1499760"/>
            <a:ext cx="7929360" cy="3358080"/>
            <a:chOff x="428760" y="1499760"/>
            <a:chExt cx="7929360" cy="3358080"/>
          </a:xfrm>
        </p:grpSpPr>
        <p:grpSp>
          <p:nvGrpSpPr>
            <p:cNvPr id="1030" name="组合 56"/>
            <p:cNvGrpSpPr/>
            <p:nvPr/>
          </p:nvGrpSpPr>
          <p:grpSpPr>
            <a:xfrm>
              <a:off x="428760" y="1714320"/>
              <a:ext cx="7929360" cy="1500120"/>
              <a:chOff x="428760" y="1714320"/>
              <a:chExt cx="7929360" cy="1500120"/>
            </a:xfrm>
          </p:grpSpPr>
          <p:sp>
            <p:nvSpPr>
              <p:cNvPr id="1031" name="TextBox 20"/>
              <p:cNvSpPr/>
              <p:nvPr/>
            </p:nvSpPr>
            <p:spPr>
              <a:xfrm>
                <a:off x="6316560" y="2293200"/>
                <a:ext cx="71424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TextBox 21"/>
              <p:cNvSpPr/>
              <p:nvPr/>
            </p:nvSpPr>
            <p:spPr>
              <a:xfrm>
                <a:off x="6384600" y="1856880"/>
                <a:ext cx="71424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3" name="组合 55"/>
              <p:cNvGrpSpPr/>
              <p:nvPr/>
            </p:nvGrpSpPr>
            <p:grpSpPr>
              <a:xfrm>
                <a:off x="428760" y="1714320"/>
                <a:ext cx="7929360" cy="1500120"/>
                <a:chOff x="428760" y="1714320"/>
                <a:chExt cx="7929360" cy="1500120"/>
              </a:xfrm>
            </p:grpSpPr>
            <p:sp>
              <p:nvSpPr>
                <p:cNvPr id="1034" name="TextBox 22"/>
                <p:cNvSpPr/>
                <p:nvPr/>
              </p:nvSpPr>
              <p:spPr>
                <a:xfrm>
                  <a:off x="6316560" y="2755800"/>
                  <a:ext cx="71424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组合 52"/>
                <p:cNvGrpSpPr/>
                <p:nvPr/>
              </p:nvGrpSpPr>
              <p:grpSpPr>
                <a:xfrm>
                  <a:off x="428760" y="1714320"/>
                  <a:ext cx="7929360" cy="1500120"/>
                  <a:chOff x="428760" y="1714320"/>
                  <a:chExt cx="7929360" cy="1500120"/>
                </a:xfrm>
              </p:grpSpPr>
              <p:grpSp>
                <p:nvGrpSpPr>
                  <p:cNvPr id="1036" name="组合 7"/>
                  <p:cNvGrpSpPr/>
                  <p:nvPr/>
                </p:nvGrpSpPr>
                <p:grpSpPr>
                  <a:xfrm>
                    <a:off x="1285920" y="1856880"/>
                    <a:ext cx="857160" cy="1357560"/>
                    <a:chOff x="1285920" y="1856880"/>
                    <a:chExt cx="857160" cy="1357560"/>
                  </a:xfrm>
                </p:grpSpPr>
                <p:sp>
                  <p:nvSpPr>
                    <p:cNvPr id="1037" name="矩形 4"/>
                    <p:cNvSpPr/>
                    <p:nvPr/>
                  </p:nvSpPr>
                  <p:spPr>
                    <a:xfrm>
                      <a:off x="1285920" y="185688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矩形 5"/>
                    <p:cNvSpPr/>
                    <p:nvPr/>
                  </p:nvSpPr>
                  <p:spPr>
                    <a:xfrm>
                      <a:off x="1285920" y="230940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矩形 6"/>
                    <p:cNvSpPr/>
                    <p:nvPr/>
                  </p:nvSpPr>
                  <p:spPr>
                    <a:xfrm>
                      <a:off x="1285920" y="276192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0" name="TextBox 8"/>
                  <p:cNvSpPr/>
                  <p:nvPr/>
                </p:nvSpPr>
                <p:spPr>
                  <a:xfrm>
                    <a:off x="1357200" y="2297160"/>
                    <a:ext cx="714240" cy="4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160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TextBox 9"/>
                  <p:cNvSpPr/>
                  <p:nvPr/>
                </p:nvSpPr>
                <p:spPr>
                  <a:xfrm>
                    <a:off x="1357200" y="1860840"/>
                    <a:ext cx="714240" cy="4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16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TextBox 10"/>
                  <p:cNvSpPr/>
                  <p:nvPr/>
                </p:nvSpPr>
                <p:spPr>
                  <a:xfrm>
                    <a:off x="1357200" y="2759760"/>
                    <a:ext cx="714240" cy="4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320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TextBox 11"/>
                  <p:cNvSpPr/>
                  <p:nvPr/>
                </p:nvSpPr>
                <p:spPr>
                  <a:xfrm>
                    <a:off x="2203200" y="2285640"/>
                    <a:ext cx="714240" cy="4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÷8=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4" name="组合 12"/>
                  <p:cNvGrpSpPr/>
                  <p:nvPr/>
                </p:nvGrpSpPr>
                <p:grpSpPr>
                  <a:xfrm>
                    <a:off x="3143160" y="1856880"/>
                    <a:ext cx="857160" cy="1357560"/>
                    <a:chOff x="3143160" y="1856880"/>
                    <a:chExt cx="857160" cy="1357560"/>
                  </a:xfrm>
                </p:grpSpPr>
                <p:sp>
                  <p:nvSpPr>
                    <p:cNvPr id="1045" name="矩形 13"/>
                    <p:cNvSpPr/>
                    <p:nvPr/>
                  </p:nvSpPr>
                  <p:spPr>
                    <a:xfrm>
                      <a:off x="3143160" y="185688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矩形 14"/>
                    <p:cNvSpPr/>
                    <p:nvPr/>
                  </p:nvSpPr>
                  <p:spPr>
                    <a:xfrm>
                      <a:off x="3143160" y="230940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矩形 15"/>
                    <p:cNvSpPr/>
                    <p:nvPr/>
                  </p:nvSpPr>
                  <p:spPr>
                    <a:xfrm>
                      <a:off x="3143160" y="276192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组合 16"/>
                  <p:cNvGrpSpPr/>
                  <p:nvPr/>
                </p:nvGrpSpPr>
                <p:grpSpPr>
                  <a:xfrm>
                    <a:off x="6154920" y="1853280"/>
                    <a:ext cx="857160" cy="1357560"/>
                    <a:chOff x="6154920" y="1853280"/>
                    <a:chExt cx="857160" cy="1357560"/>
                  </a:xfrm>
                </p:grpSpPr>
                <p:sp>
                  <p:nvSpPr>
                    <p:cNvPr id="1049" name="矩形 17"/>
                    <p:cNvSpPr/>
                    <p:nvPr/>
                  </p:nvSpPr>
                  <p:spPr>
                    <a:xfrm>
                      <a:off x="6154920" y="185328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矩形 18"/>
                    <p:cNvSpPr/>
                    <p:nvPr/>
                  </p:nvSpPr>
                  <p:spPr>
                    <a:xfrm>
                      <a:off x="6154920" y="230580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矩形 19"/>
                    <p:cNvSpPr/>
                    <p:nvPr/>
                  </p:nvSpPr>
                  <p:spPr>
                    <a:xfrm>
                      <a:off x="6154920" y="275832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2" name="TextBox 23"/>
                  <p:cNvSpPr/>
                  <p:nvPr/>
                </p:nvSpPr>
                <p:spPr>
                  <a:xfrm>
                    <a:off x="7072560" y="2282040"/>
                    <a:ext cx="714240" cy="4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3" name="组合 24"/>
                  <p:cNvGrpSpPr/>
                  <p:nvPr/>
                </p:nvGrpSpPr>
                <p:grpSpPr>
                  <a:xfrm>
                    <a:off x="7500960" y="1856880"/>
                    <a:ext cx="857160" cy="1357560"/>
                    <a:chOff x="7500960" y="1856880"/>
                    <a:chExt cx="857160" cy="1357560"/>
                  </a:xfrm>
                </p:grpSpPr>
                <p:sp>
                  <p:nvSpPr>
                    <p:cNvPr id="1054" name="矩形 25"/>
                    <p:cNvSpPr/>
                    <p:nvPr/>
                  </p:nvSpPr>
                  <p:spPr>
                    <a:xfrm>
                      <a:off x="7500960" y="185688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5" name="矩形 26"/>
                    <p:cNvSpPr/>
                    <p:nvPr/>
                  </p:nvSpPr>
                  <p:spPr>
                    <a:xfrm>
                      <a:off x="7500960" y="230940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矩形 27"/>
                    <p:cNvSpPr/>
                    <p:nvPr/>
                  </p:nvSpPr>
                  <p:spPr>
                    <a:xfrm>
                      <a:off x="7500960" y="2761920"/>
                      <a:ext cx="857160" cy="452520"/>
                    </a:xfrm>
                    <a:prstGeom prst="rect">
                      <a:avLst/>
                    </a:prstGeom>
                    <a:noFill/>
                    <a:ln w="25560">
                      <a:solidFill>
                        <a:srgbClr val="395e8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7" name="TextBox 28"/>
                  <p:cNvSpPr/>
                  <p:nvPr/>
                </p:nvSpPr>
                <p:spPr>
                  <a:xfrm>
                    <a:off x="5132160" y="2285640"/>
                    <a:ext cx="714240" cy="4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200÷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Box 29"/>
                  <p:cNvSpPr/>
                  <p:nvPr/>
                </p:nvSpPr>
                <p:spPr>
                  <a:xfrm>
                    <a:off x="428760" y="1714320"/>
                    <a:ext cx="785520" cy="50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5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（</a:t>
                    </a: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r>
                      <a:rPr b="0" lang="zh-CN" sz="25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）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TextBox 30"/>
                  <p:cNvSpPr/>
                  <p:nvPr/>
                </p:nvSpPr>
                <p:spPr>
                  <a:xfrm>
                    <a:off x="4572000" y="1714320"/>
                    <a:ext cx="785520" cy="50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5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（</a:t>
                    </a:r>
                    <a:r>
                      <a:rPr b="0" lang="en-US" sz="25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r>
                      <a:rPr b="0" lang="zh-CN" sz="25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）</a:t>
                    </a:r>
                    <a:endParaRPr b="0" lang="en-US" sz="2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60" name=""/>
            <p:cNvGrpSpPr/>
            <p:nvPr/>
          </p:nvGrpSpPr>
          <p:grpSpPr>
            <a:xfrm>
              <a:off x="4488480" y="1499760"/>
              <a:ext cx="11880" cy="3358080"/>
              <a:chOff x="4488480" y="1499760"/>
              <a:chExt cx="11880" cy="3358080"/>
            </a:xfrm>
          </p:grpSpPr>
          <p:sp>
            <p:nvSpPr>
              <p:cNvPr id="1061" name="直接连接符 32"/>
              <p:cNvSpPr/>
              <p:nvPr/>
            </p:nvSpPr>
            <p:spPr>
              <a:xfrm>
                <a:off x="4488480" y="1500120"/>
                <a:ext cx="11160" cy="3357720"/>
              </a:xfrm>
              <a:prstGeom prst="line">
                <a:avLst/>
              </a:prstGeom>
              <a:ln w="19080">
                <a:solidFill>
                  <a:srgbClr val="cccc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 rot="16200000">
                <a:off x="2815920" y="3173040"/>
                <a:ext cx="3357720" cy="11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3" name="组合 53"/>
          <p:cNvGrpSpPr/>
          <p:nvPr/>
        </p:nvGrpSpPr>
        <p:grpSpPr>
          <a:xfrm>
            <a:off x="565200" y="3514680"/>
            <a:ext cx="3578040" cy="914400"/>
            <a:chOff x="565200" y="3514680"/>
            <a:chExt cx="3578040" cy="914400"/>
          </a:xfrm>
        </p:grpSpPr>
        <p:pic>
          <p:nvPicPr>
            <p:cNvPr id="1064" name="图片 40" descr="E:\2017秋上·黄倩\其他\人\海豚.jpg海豚"/>
            <p:cNvPicPr/>
            <p:nvPr/>
          </p:nvPicPr>
          <p:blipFill>
            <a:blip r:embed="rId8"/>
            <a:stretch/>
          </p:blipFill>
          <p:spPr>
            <a:xfrm>
              <a:off x="565200" y="3588120"/>
              <a:ext cx="5122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TextBox 35"/>
            <p:cNvSpPr/>
            <p:nvPr/>
          </p:nvSpPr>
          <p:spPr>
            <a:xfrm>
              <a:off x="1447200" y="35146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除数不变，被除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乘几，商也乘几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圆角矩形标注 37"/>
            <p:cNvSpPr/>
            <p:nvPr/>
          </p:nvSpPr>
          <p:spPr>
            <a:xfrm>
              <a:off x="1428120" y="3552120"/>
              <a:ext cx="2715120" cy="785880"/>
            </a:xfrm>
            <a:prstGeom prst="wedgeRoundRectCallout">
              <a:avLst>
                <a:gd name="adj1" fmla="val -58259"/>
                <a:gd name="adj2" fmla="val 7907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组合 54"/>
          <p:cNvGrpSpPr/>
          <p:nvPr/>
        </p:nvGrpSpPr>
        <p:grpSpPr>
          <a:xfrm>
            <a:off x="4786200" y="3657600"/>
            <a:ext cx="3907080" cy="914400"/>
            <a:chOff x="4786200" y="3657600"/>
            <a:chExt cx="3907080" cy="914400"/>
          </a:xfrm>
        </p:grpSpPr>
        <p:pic>
          <p:nvPicPr>
            <p:cNvPr id="1068" name="图片 39" descr="E:\2017秋上·黄倩\其他\人\蜜蜂.gif蜜蜂"/>
            <p:cNvPicPr/>
            <p:nvPr/>
          </p:nvPicPr>
          <p:blipFill>
            <a:blip r:embed="rId9"/>
            <a:stretch/>
          </p:blipFill>
          <p:spPr>
            <a:xfrm>
              <a:off x="8098200" y="3729240"/>
              <a:ext cx="59508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Box 36"/>
            <p:cNvSpPr/>
            <p:nvPr/>
          </p:nvSpPr>
          <p:spPr>
            <a:xfrm>
              <a:off x="4786200" y="365760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被除数不变，除数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几，商反而除以几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圆角矩形标注 38"/>
            <p:cNvSpPr/>
            <p:nvPr/>
          </p:nvSpPr>
          <p:spPr>
            <a:xfrm>
              <a:off x="4820040" y="3706200"/>
              <a:ext cx="2967120" cy="785880"/>
            </a:xfrm>
            <a:prstGeom prst="wedgeRoundRectCallout">
              <a:avLst>
                <a:gd name="adj1" fmla="val 57421"/>
                <a:gd name="adj2" fmla="val 2162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TextBox 45"/>
          <p:cNvSpPr/>
          <p:nvPr/>
        </p:nvSpPr>
        <p:spPr>
          <a:xfrm>
            <a:off x="3316320" y="229392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6"/>
          <p:cNvSpPr/>
          <p:nvPr/>
        </p:nvSpPr>
        <p:spPr>
          <a:xfrm>
            <a:off x="3384720" y="1857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7"/>
          <p:cNvSpPr/>
          <p:nvPr/>
        </p:nvSpPr>
        <p:spPr>
          <a:xfrm>
            <a:off x="3316320" y="275580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7632720" y="229392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49"/>
          <p:cNvSpPr/>
          <p:nvPr/>
        </p:nvSpPr>
        <p:spPr>
          <a:xfrm>
            <a:off x="7553160" y="1857240"/>
            <a:ext cx="7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50"/>
          <p:cNvSpPr/>
          <p:nvPr/>
        </p:nvSpPr>
        <p:spPr>
          <a:xfrm>
            <a:off x="7748640" y="275580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51"/>
          <p:cNvSpPr/>
          <p:nvPr/>
        </p:nvSpPr>
        <p:spPr>
          <a:xfrm>
            <a:off x="928800" y="5000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左边一组题中，从上往下观察，被除数变没变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除数呢？商有什么变化？右边的一组题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八边形 7"/>
          <p:cNvSpPr/>
          <p:nvPr/>
        </p:nvSpPr>
        <p:spPr>
          <a:xfrm>
            <a:off x="169920" y="793800"/>
            <a:ext cx="52236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Box 1"/>
          <p:cNvSpPr/>
          <p:nvPr/>
        </p:nvSpPr>
        <p:spPr>
          <a:xfrm>
            <a:off x="428760" y="716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计算并观察下面的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3"/>
          <p:cNvSpPr/>
          <p:nvPr/>
        </p:nvSpPr>
        <p:spPr>
          <a:xfrm>
            <a:off x="357120" y="35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从上往下观察，被除数有什么变化？除数呢？商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5"/>
          <p:cNvSpPr/>
          <p:nvPr/>
        </p:nvSpPr>
        <p:spPr>
          <a:xfrm>
            <a:off x="357120" y="4857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从下往上观察，被除数有什么变化？除数呢？商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6"/>
          <p:cNvSpPr/>
          <p:nvPr/>
        </p:nvSpPr>
        <p:spPr>
          <a:xfrm>
            <a:off x="1214280" y="4143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被除数和除数都乘一个相同的数，商不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8"/>
          <p:cNvSpPr/>
          <p:nvPr/>
        </p:nvSpPr>
        <p:spPr>
          <a:xfrm>
            <a:off x="1214280" y="5443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被除数和除数都除以一个相同的数，商不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2"/>
          <p:cNvSpPr/>
          <p:nvPr/>
        </p:nvSpPr>
        <p:spPr>
          <a:xfrm>
            <a:off x="1428840" y="114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÷3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0÷3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00÷30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000÷300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1"/>
          <p:cNvGrpSpPr/>
          <p:nvPr/>
        </p:nvGrpSpPr>
        <p:grpSpPr>
          <a:xfrm>
            <a:off x="2530440" y="1273320"/>
            <a:ext cx="1755360" cy="2133000"/>
            <a:chOff x="2530440" y="1273320"/>
            <a:chExt cx="1755360" cy="2133000"/>
          </a:xfrm>
        </p:grpSpPr>
        <p:sp>
          <p:nvSpPr>
            <p:cNvPr id="1086" name="TextBox 9"/>
            <p:cNvSpPr/>
            <p:nvPr/>
          </p:nvSpPr>
          <p:spPr>
            <a:xfrm>
              <a:off x="2530440" y="1273320"/>
              <a:ext cx="6426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1"/>
            <p:cNvSpPr/>
            <p:nvPr/>
          </p:nvSpPr>
          <p:spPr>
            <a:xfrm>
              <a:off x="2940120" y="1818720"/>
              <a:ext cx="6429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2"/>
            <p:cNvSpPr/>
            <p:nvPr/>
          </p:nvSpPr>
          <p:spPr>
            <a:xfrm>
              <a:off x="3308400" y="2390760"/>
              <a:ext cx="6447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"/>
            <p:cNvSpPr/>
            <p:nvPr/>
          </p:nvSpPr>
          <p:spPr>
            <a:xfrm>
              <a:off x="3643200" y="2977920"/>
              <a:ext cx="6426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Box 1"/>
          <p:cNvSpPr/>
          <p:nvPr/>
        </p:nvSpPr>
        <p:spPr>
          <a:xfrm>
            <a:off x="920880" y="942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你发现了什么规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圆角矩形标注 2"/>
          <p:cNvSpPr/>
          <p:nvPr/>
        </p:nvSpPr>
        <p:spPr>
          <a:xfrm>
            <a:off x="928800" y="942840"/>
            <a:ext cx="2917800" cy="500040"/>
          </a:xfrm>
          <a:prstGeom prst="wedgeRoundRectCallout">
            <a:avLst>
              <a:gd name="adj1" fmla="val 60416"/>
              <a:gd name="adj2" fmla="val 1546"/>
              <a:gd name="adj3" fmla="val 16667"/>
            </a:avLst>
          </a:prstGeom>
          <a:noFill/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图片 3" descr="000.gif"/>
          <p:cNvPicPr/>
          <p:nvPr/>
        </p:nvPicPr>
        <p:blipFill>
          <a:blip r:embed="rId1"/>
          <a:stretch/>
        </p:blipFill>
        <p:spPr>
          <a:xfrm>
            <a:off x="4071960" y="571680"/>
            <a:ext cx="1036440" cy="1143000"/>
          </a:xfrm>
          <a:prstGeom prst="rect">
            <a:avLst/>
          </a:prstGeom>
          <a:ln w="0">
            <a:noFill/>
          </a:ln>
        </p:spPr>
      </p:pic>
      <p:sp>
        <p:nvSpPr>
          <p:cNvPr id="1093" name="TextBox 4"/>
          <p:cNvSpPr/>
          <p:nvPr/>
        </p:nvSpPr>
        <p:spPr>
          <a:xfrm>
            <a:off x="1071720" y="2085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在除法里，被除数和除数都乘（或除以）一个相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的数（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除外），商不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5"/>
          <p:cNvSpPr/>
          <p:nvPr/>
        </p:nvSpPr>
        <p:spPr>
          <a:xfrm>
            <a:off x="1846440" y="3444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要同时乘或除以一个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乘或除以的数要相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同时乘或除以的这个数不能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6"/>
          <p:cNvSpPr/>
          <p:nvPr/>
        </p:nvSpPr>
        <p:spPr>
          <a:xfrm>
            <a:off x="1127880" y="36050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强调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Box 4"/>
          <p:cNvSpPr/>
          <p:nvPr/>
        </p:nvSpPr>
        <p:spPr>
          <a:xfrm>
            <a:off x="642960" y="1357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根据每组题中第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题的商，写出下面两题的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÷9=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6÷3=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0÷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0÷90=               360÷30=                800÷4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00÷900=           3600÷300=            8000÷400=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7"/>
          <p:cNvSpPr/>
          <p:nvPr/>
        </p:nvSpPr>
        <p:spPr>
          <a:xfrm>
            <a:off x="2338560" y="2428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0"/>
          <p:cNvSpPr/>
          <p:nvPr/>
        </p:nvSpPr>
        <p:spPr>
          <a:xfrm>
            <a:off x="2357280" y="321156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11"/>
          <p:cNvSpPr/>
          <p:nvPr/>
        </p:nvSpPr>
        <p:spPr>
          <a:xfrm>
            <a:off x="2373480" y="397836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15"/>
          <p:cNvSpPr/>
          <p:nvPr/>
        </p:nvSpPr>
        <p:spPr>
          <a:xfrm>
            <a:off x="4803840" y="241776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16"/>
          <p:cNvSpPr/>
          <p:nvPr/>
        </p:nvSpPr>
        <p:spPr>
          <a:xfrm>
            <a:off x="4822920" y="319896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17"/>
          <p:cNvSpPr/>
          <p:nvPr/>
        </p:nvSpPr>
        <p:spPr>
          <a:xfrm>
            <a:off x="4836960" y="3967200"/>
            <a:ext cx="357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18"/>
          <p:cNvSpPr/>
          <p:nvPr/>
        </p:nvSpPr>
        <p:spPr>
          <a:xfrm>
            <a:off x="7480440" y="243216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19"/>
          <p:cNvSpPr/>
          <p:nvPr/>
        </p:nvSpPr>
        <p:spPr>
          <a:xfrm>
            <a:off x="7499520" y="3189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20"/>
          <p:cNvSpPr/>
          <p:nvPr/>
        </p:nvSpPr>
        <p:spPr>
          <a:xfrm>
            <a:off x="7513560" y="3954600"/>
            <a:ext cx="358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7" name="Rectangle 64"/>
          <p:cNvSpPr/>
          <p:nvPr/>
        </p:nvSpPr>
        <p:spPr>
          <a:xfrm>
            <a:off x="530280" y="220680"/>
            <a:ext cx="2576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9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2"/>
          <p:cNvSpPr/>
          <p:nvPr/>
        </p:nvSpPr>
        <p:spPr>
          <a:xfrm>
            <a:off x="210960" y="100008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除数不变，商随除数变化的规律：除数乘（除以）一个不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数，商就除以（乘）相同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除数不变，商随被除数变化的规律：被除数乘（除以）一个不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数，商也乘（除以）相同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2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99"/>
          <p:cNvSpPr/>
          <p:nvPr/>
        </p:nvSpPr>
        <p:spPr>
          <a:xfrm>
            <a:off x="409680" y="704880"/>
            <a:ext cx="785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个数的商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被除数和除数同时扩大到原来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倍，则商是（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甲数除以乙数，乙数缩小到原来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/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甲数应（       ），它们的商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３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. 3500÷700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除数缩小到原来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/100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被除数不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商会（                      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 320÷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除数不变，被除数扩大到原来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倍，那么商（           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文本框 1"/>
          <p:cNvSpPr/>
          <p:nvPr/>
        </p:nvSpPr>
        <p:spPr>
          <a:xfrm>
            <a:off x="1069920" y="175752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2"/>
          <p:cNvSpPr/>
          <p:nvPr/>
        </p:nvSpPr>
        <p:spPr>
          <a:xfrm>
            <a:off x="6357960" y="22017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除以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3"/>
          <p:cNvSpPr/>
          <p:nvPr/>
        </p:nvSpPr>
        <p:spPr>
          <a:xfrm>
            <a:off x="966960" y="3594240"/>
            <a:ext cx="26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扩大到原来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4"/>
          <p:cNvSpPr/>
          <p:nvPr/>
        </p:nvSpPr>
        <p:spPr>
          <a:xfrm>
            <a:off x="847800" y="449568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扩大到原来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24Z</dcterms:modified>
  <cp:revision>2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